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C4EC-46F2-48DB-BFAF-0F7E6D610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BAA9-3024-427E-AD18-3E89F72DC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9166-9092-4BAF-A812-AC218A216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7216-D37E-45FE-9286-82EF4C4B7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BDE5-102B-4504-B179-69293DE2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9981-6573-4671-A79C-57F0810B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851C-ABC8-47D8-A28C-CC959D72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C805-5321-4852-BBE3-10B2F4AA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8C86-6B42-460E-A5A3-3C0838147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F084-90F0-44D5-81E0-48954B7F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AE6F-91D6-4DB2-A00C-22CE79B3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6EC0-483C-4943-A77D-C7EA3193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FE23D-DAD2-4525-A4CE-2483816758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0" descr=""/>
          <p:cNvPicPr/>
          <p:nvPr/>
        </p:nvPicPr>
        <p:blipFill>
          <a:blip r:embed="rId1"/>
          <a:stretch/>
        </p:blipFill>
        <p:spPr>
          <a:xfrm>
            <a:off x="914400" y="0"/>
            <a:ext cx="769608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FY '09 Storahtelling Logo BW (2)"/>
          <p:cNvPicPr/>
          <p:nvPr/>
        </p:nvPicPr>
        <p:blipFill>
          <a:blip r:embed="rId2"/>
          <a:stretch/>
        </p:blipFill>
        <p:spPr>
          <a:xfrm>
            <a:off x="5105520" y="6286680"/>
            <a:ext cx="331452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Line 9"/>
          <p:cNvSpPr/>
          <p:nvPr/>
        </p:nvSpPr>
        <p:spPr>
          <a:xfrm>
            <a:off x="3581280" y="1371600"/>
            <a:ext cx="0" cy="6094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4971E-006 L 3.33333E-006 0.27746 E"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"/>
          <p:cNvPicPr/>
          <p:nvPr/>
        </p:nvPicPr>
        <p:blipFill>
          <a:blip r:embed="rId1"/>
          <a:stretch/>
        </p:blipFill>
        <p:spPr>
          <a:xfrm>
            <a:off x="914400" y="0"/>
            <a:ext cx="769608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FY '09 Storahtelling Logo BW (2)"/>
          <p:cNvPicPr/>
          <p:nvPr/>
        </p:nvPicPr>
        <p:blipFill>
          <a:blip r:embed="rId2"/>
          <a:stretch/>
        </p:blipFill>
        <p:spPr>
          <a:xfrm>
            <a:off x="5105520" y="6286680"/>
            <a:ext cx="3314520" cy="571320"/>
          </a:xfrm>
          <a:prstGeom prst="rect">
            <a:avLst/>
          </a:prstGeom>
          <a:ln w="0">
            <a:noFill/>
          </a:ln>
        </p:spPr>
      </p:pic>
      <p:sp>
        <p:nvSpPr>
          <p:cNvPr id="48" name="Line 9"/>
          <p:cNvSpPr/>
          <p:nvPr/>
        </p:nvSpPr>
        <p:spPr>
          <a:xfrm>
            <a:off x="3581280" y="3352680"/>
            <a:ext cx="0" cy="6098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1"/>
          <p:cNvSpPr/>
          <p:nvPr/>
        </p:nvSpPr>
        <p:spPr>
          <a:xfrm>
            <a:off x="3657600" y="403848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2666880" y="480060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0" y="303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914400" y="0"/>
            <a:ext cx="769608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FY '09 Storahtelling Logo BW (2)"/>
          <p:cNvPicPr/>
          <p:nvPr/>
        </p:nvPicPr>
        <p:blipFill>
          <a:blip r:embed="rId2"/>
          <a:stretch/>
        </p:blipFill>
        <p:spPr>
          <a:xfrm>
            <a:off x="5105520" y="6286680"/>
            <a:ext cx="3314520" cy="571320"/>
          </a:xfrm>
          <a:prstGeom prst="rect">
            <a:avLst/>
          </a:prstGeom>
          <a:ln w="0">
            <a:noFill/>
          </a:ln>
        </p:spPr>
      </p:pic>
      <p:sp>
        <p:nvSpPr>
          <p:cNvPr id="54" name="Line 5"/>
          <p:cNvSpPr/>
          <p:nvPr/>
        </p:nvSpPr>
        <p:spPr>
          <a:xfrm flipH="1">
            <a:off x="6171840" y="5257800"/>
            <a:ext cx="1066680" cy="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>
            <a:off x="3962520" y="3124080"/>
            <a:ext cx="0" cy="60984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>
            <a:off x="3657600" y="4038480"/>
            <a:ext cx="7621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666880" y="480060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Gleaning Laws</a:t>
            </a:r>
            <a:br>
              <a:rPr sz="40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uteronomy, Chap.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2286000"/>
          <a:ext cx="8229600" cy="384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840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יט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 </a:t>
                      </a:r>
                      <a:r>
                        <a:rPr b="0" lang="he-I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כִּי תִקְצֹר קְצִירְךָ בְשָׂדֶךָ וְשָׁכַחְתָּ עֹמֶר בַּשָּׂדֶה, לֹא תָשׁוּב לְקַחְתּוֹ--לַגֵּר לַיָּתוֹם וְלָאַלְמָנָה, יִהְיֶה:  לְמַעַן יְבָרֶכְךָ יְהוָה אֱלֹהֶיךָ, בְּכֹל מַעֲשֵׂה יָדֶיךָ.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 When you reap your harvest in your field, and forget a sheaf in the field, don’t go back to take it – it’s for the 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stranger,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r the 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orpha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and for the </a:t>
                      </a:r>
                      <a:r>
                        <a:rPr b="1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widow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; that Adonai your God may bless you in all the work of your hand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Text Box 18"/>
          <p:cNvSpPr/>
          <p:nvPr/>
        </p:nvSpPr>
        <p:spPr>
          <a:xfrm>
            <a:off x="1676520" y="4572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Gleaning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gather grain or other produce left by reap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809880" cy="23652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/>
          <p:cNvSpPr/>
          <p:nvPr/>
        </p:nvSpPr>
        <p:spPr>
          <a:xfrm>
            <a:off x="4803120" y="837000"/>
            <a:ext cx="346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’t treat anyone poorly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don’t reject anything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228960" y="5715000"/>
            <a:ext cx="384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RKEI AVOT: Ethics of the Fa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ter 4, Mishna/vers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228600" y="2847960"/>
            <a:ext cx="7924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cause there’s no person who doesn’t have his/her hour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there’s nothing that doesn’t have it’s pl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0"/>
          <p:cNvSpPr/>
          <p:nvPr/>
        </p:nvSpPr>
        <p:spPr>
          <a:xfrm>
            <a:off x="5677560" y="1675440"/>
            <a:ext cx="309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200" spc="-1" strike="noStrike">
                <a:solidFill>
                  <a:srgbClr val="000000"/>
                </a:solidFill>
                <a:latin typeface="Arial"/>
              </a:rPr>
              <a:t>אל תהי בז לכל אדם</a:t>
            </a:r>
            <a:r>
              <a:rPr b="0" lang="he-IL" sz="2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200" spc="-1" strike="noStrike">
                <a:solidFill>
                  <a:srgbClr val="000000"/>
                </a:solidFill>
                <a:latin typeface="Arial"/>
              </a:rPr>
              <a:t>ואל תהי מפליג לכל דבר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2260440" y="3200400"/>
            <a:ext cx="3606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200" spc="-1" strike="noStrike">
                <a:solidFill>
                  <a:srgbClr val="000000"/>
                </a:solidFill>
                <a:latin typeface="Arial"/>
              </a:rPr>
              <a:t>שאין לך אדם שאין לו שעה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2"/>
          <p:cNvSpPr/>
          <p:nvPr/>
        </p:nvSpPr>
        <p:spPr>
          <a:xfrm>
            <a:off x="3627360" y="4114800"/>
            <a:ext cx="30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200" spc="-1" strike="noStrike">
                <a:solidFill>
                  <a:srgbClr val="000000"/>
                </a:solidFill>
                <a:latin typeface="Arial"/>
              </a:rPr>
              <a:t>ואין לך דבר שאין לו מקו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01:12:53Z</dcterms:created>
  <dc:creator>naomi</dc:creator>
  <dc:description/>
  <dc:language>en-US</dc:language>
  <cp:lastModifiedBy>marxa</cp:lastModifiedBy>
  <dcterms:modified xsi:type="dcterms:W3CDTF">2010-05-05T17:04:28Z</dcterms:modified>
  <cp:revision>21</cp:revision>
  <dc:subject/>
  <dc:title>Slide 1</dc:title>
</cp:coreProperties>
</file>